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76F-79B3-4125-AAD9-50531C833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7263-D489-4638-9E92-1B27892D1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lementary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past, academics have dominated reconnaissance activities. SEAOC hopes to change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engaging more SEAOC members in SYSTEMATIC reconnaissance and post-earthquake evaluation activities, SEAOC expects to improve the practice of Structural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FD57-038B-49B2-A556-C904B15C3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5609-7265-4BF9-802C-C8DB59805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951E-3DAD-4D1C-A54F-AB116D764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A9BE-0ECF-4C64-9324-947CB9E9F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4798-AA20-404B-8907-B8F66B6DE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73F3-77E8-4D8C-B9DA-C1A8DED40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84A6-1B6E-4F91-AB8B-69DE6F3FC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AB9E-722C-4981-AE33-D9B516CDC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A011-6C02-4075-A6FB-86A97F385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75A8-C354-40C3-B12F-DC7A2FBD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752C-D499-4A29-A0BD-A1E6EA81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F612-FFFE-43B7-93F7-9041E06B3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9C3D-E8AA-41C4-AEC4-B3D1FF80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1CE-EFFF-43D5-AFCE-69089BDF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744-2FD4-4A29-9A19-5A17874F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9C9-0A71-42D2-9106-70B2DAFB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240-2D11-4B0B-B49D-E41D69CF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502-79F9-4562-B6E6-834D1DD5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076-CBF1-4088-A62E-28B06F56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C43-6F5D-4C5A-8CE8-69AE68E6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82D-23CA-4ABA-B0CF-D521D7D7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3C7-C063-41AD-ACA7-1D3E0149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9D2-2387-432F-8905-0EE9247B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C6F-DBC5-41BF-90FD-9632D141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73D-F738-4ED1-A2DE-A616B64B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D293-0BA6-410F-A07F-7B643AA39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EERI</a:t>
            </a: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Team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, 17 March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quake Performance Evaluation Program (EPE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560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EPEP forms for data collection and archiv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500ft radius “pods” around 4 ground motion recording stations (REHS, CHCH, CCCC, CM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basic inventory data (structural type, year built, number of stories, sq.f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global performance (insignificant, minor, moderate, he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performance specifics (brick wall, chimney, column, cladding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: Marko Schotanus (mschotanus@ruthchek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: Tony Court (abcourt@abcourtse.co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0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6480" cy="13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GS-PAGER Int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000" y="1295280"/>
            <a:ext cx="757080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e extent of damage  to different construction types at different levels of ground motions (building stock around different GNS seismic s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e implication of shaking vs. liquefaction-related damage to residential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5715000" y="54864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ndara"/>
                <a:ea typeface="ＭＳ Ｐゴシック"/>
              </a:rPr>
              <a:t>Kishor Jaiswal, USG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jaiswal@usg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 Facilit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structural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s in the CDB have damaged and displaced contents, ceilings, shelving, and office equip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industrial and commercial buildings, damaged drainage pipes, sprinkler lines and ducts were also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machinery at industrial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athan Gould &lt;NGould@absconsulting.co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 Collaborators or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eam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 Elwood   (elwood@civil.ubc.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Comerio (mcomerio@berkeley.e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ssues for EERI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pse/performance of concrete and masonry struc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liance and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Grand Challenges in </a:t>
            </a: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arthquake Engineering Research</a:t>
            </a:r>
            <a:br>
              <a:rPr sz="3600"/>
            </a:br>
            <a:r>
              <a:rPr b="0" lang="en-CA" sz="2900" spc="-1" strike="noStrike">
                <a:solidFill>
                  <a:srgbClr val="000000"/>
                </a:solidFill>
                <a:latin typeface="Arial"/>
              </a:rPr>
              <a:t>Opportunities for Future Collabor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2514240"/>
            <a:ext cx="38638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: Seismology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fter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corporation in Performance-based Seismic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mpact on post-earthquake recovery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Ken\Documents\UBC\EQ Recon\Christchurch NZ\Seismology\Lyttelton.jpg"/>
          <p:cNvPicPr/>
          <p:nvPr/>
        </p:nvPicPr>
        <p:blipFill>
          <a:blip r:embed="rId1"/>
          <a:stretch/>
        </p:blipFill>
        <p:spPr>
          <a:xfrm>
            <a:off x="3538440" y="2205000"/>
            <a:ext cx="5497560" cy="388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754680" y="3836880"/>
            <a:ext cx="287640" cy="2174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5"/>
          <p:cNvCxnSpPr>
            <a:endCxn id="53" idx="0"/>
          </p:cNvCxnSpPr>
          <p:nvPr/>
        </p:nvCxnSpPr>
        <p:spPr>
          <a:xfrm flipH="1" flipV="1">
            <a:off x="6875280" y="3933360"/>
            <a:ext cx="1248480" cy="1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TextBox 6"/>
          <p:cNvSpPr/>
          <p:nvPr/>
        </p:nvSpPr>
        <p:spPr>
          <a:xfrm>
            <a:off x="8054640" y="3981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Calibri"/>
              </a:rPr>
              <a:t>C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: Geotechnical earthquake impacts to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WP_000307.jpg"/>
          <p:cNvPicPr/>
          <p:nvPr/>
        </p:nvPicPr>
        <p:blipFill>
          <a:blip r:embed="rId1"/>
          <a:srcRect l="11026" t="11766" r="0" b="11766"/>
          <a:stretch/>
        </p:blipFill>
        <p:spPr>
          <a:xfrm>
            <a:off x="609480" y="4343400"/>
            <a:ext cx="3657600" cy="2357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609480" y="3581280"/>
            <a:ext cx="365760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l type, geology, and vertical ground motion presented a range of retaining wall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990720" y="762120"/>
            <a:ext cx="3657600" cy="2716200"/>
            <a:chOff x="990720" y="762120"/>
            <a:chExt cx="3657600" cy="2716200"/>
          </a:xfrm>
        </p:grpSpPr>
        <p:pic>
          <p:nvPicPr>
            <p:cNvPr id="60" name="Picture 10" descr="IMGP2474.JPG"/>
            <p:cNvPicPr/>
            <p:nvPr/>
          </p:nvPicPr>
          <p:blipFill>
            <a:blip r:embed="rId2"/>
            <a:srcRect l="23438" t="43755" r="23438" b="12504"/>
            <a:stretch/>
          </p:blipFill>
          <p:spPr>
            <a:xfrm>
              <a:off x="990720" y="1219320"/>
              <a:ext cx="3657600" cy="22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6"/>
            <p:cNvSpPr/>
            <p:nvPr/>
          </p:nvSpPr>
          <p:spPr>
            <a:xfrm>
              <a:off x="990720" y="762120"/>
              <a:ext cx="3657600" cy="642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ssons learned from  infrastructure and ground performa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2"/>
          <p:cNvGrpSpPr/>
          <p:nvPr/>
        </p:nvGrpSpPr>
        <p:grpSpPr>
          <a:xfrm>
            <a:off x="5029200" y="2590920"/>
            <a:ext cx="3657600" cy="3589200"/>
            <a:chOff x="5029200" y="2590920"/>
            <a:chExt cx="3657600" cy="3589200"/>
          </a:xfrm>
        </p:grpSpPr>
        <p:sp>
          <p:nvSpPr>
            <p:cNvPr id="63" name="TextBox 5"/>
            <p:cNvSpPr/>
            <p:nvPr/>
          </p:nvSpPr>
          <p:spPr>
            <a:xfrm>
              <a:off x="5029200" y="2590920"/>
              <a:ext cx="3657600" cy="916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y increasing awareness of the hazard, how will this earthquake impact rockfall risk management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7" descr="IMGP2672.JPG"/>
            <p:cNvPicPr/>
            <p:nvPr/>
          </p:nvPicPr>
          <p:blipFill>
            <a:blip r:embed="rId3"/>
            <a:srcRect l="-255" t="0" r="26109" b="27689"/>
            <a:stretch/>
          </p:blipFill>
          <p:spPr>
            <a:xfrm>
              <a:off x="5029200" y="3505320"/>
              <a:ext cx="3657600" cy="267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Grand Challenges in </a:t>
            </a: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arthquake Engineering Research:</a:t>
            </a: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900" spc="-1" strike="noStrike">
                <a:solidFill>
                  <a:srgbClr val="000000"/>
                </a:solidFill>
                <a:latin typeface="Arial"/>
              </a:rPr>
              <a:t>Opportunities for Future Collabor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349000"/>
            <a:ext cx="41148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luence of soil-structure interaction (liquefaction) on structural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 both help and hinder structural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listic approach to building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arge-scale studie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Ken\Documents\UBC\EQ Recon\Christchurch NZ\Day 1\IMG_2427.JPG"/>
          <p:cNvPicPr/>
          <p:nvPr/>
        </p:nvPicPr>
        <p:blipFill>
          <a:blip r:embed="rId1"/>
          <a:stretch/>
        </p:blipFill>
        <p:spPr>
          <a:xfrm>
            <a:off x="5029200" y="188136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4952880" y="4416480"/>
            <a:ext cx="31831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Grand Challenges in </a:t>
            </a: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arthquake Engineering Research:</a:t>
            </a: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900" spc="-1" strike="noStrike">
                <a:solidFill>
                  <a:srgbClr val="000000"/>
                </a:solidFill>
                <a:latin typeface="Arial"/>
              </a:rPr>
              <a:t>Opportunities for Future Collabor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349000"/>
            <a:ext cx="41148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mmunity Resil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 performance of existing buildings /infrastructure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mmunity recovery given business and institutional loss? (far beyond lives l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ublic policy challe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valuate tagging procedures to expedite decis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DSC01913"/>
          <p:cNvPicPr/>
          <p:nvPr/>
        </p:nvPicPr>
        <p:blipFill>
          <a:blip r:embed="rId1"/>
          <a:stretch/>
        </p:blipFill>
        <p:spPr>
          <a:xfrm>
            <a:off x="4724280" y="26668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Grand Challenges in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arthquake Engineering Research: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pportunities for Futur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6483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ngineering Design and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vertical acceler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at systems/typologies performed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ecast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ails and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isting and new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DSC01488"/>
          <p:cNvPicPr/>
          <p:nvPr/>
        </p:nvPicPr>
        <p:blipFill>
          <a:blip r:embed="rId1"/>
          <a:stretch/>
        </p:blipFill>
        <p:spPr>
          <a:xfrm>
            <a:off x="5181480" y="26668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ERI Social Science Team </a:t>
            </a:r>
            <a:br>
              <a:rPr sz="4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ri Peek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ado State University;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eannette Sutto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Colorado-Colorado Springs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ne Wei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49748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sk Communication and Social Med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2174400"/>
            <a:ext cx="4497480" cy="468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hannels were used for risk communic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as social media used to communicate risk and recovery inform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kinds of messages were pushed ou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ommunication strategies were used to reach specific sub-populations and especially vulnerable group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49892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2174400"/>
            <a:ext cx="4498920" cy="468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is social science and other evidence-based knowledge being used to inform recove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are economic and social impacts being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we learn about economic and community resili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is geoscience information informing the 4Rs—reduction, readiness, response, recove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paredness and Resilience of Public Health and Healthcare Deliver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0"/>
          <p:cNvGrpSpPr/>
          <p:nvPr/>
        </p:nvGrpSpPr>
        <p:grpSpPr>
          <a:xfrm>
            <a:off x="184320" y="1219320"/>
            <a:ext cx="2989080" cy="1965240"/>
            <a:chOff x="184320" y="1219320"/>
            <a:chExt cx="2989080" cy="1965240"/>
          </a:xfrm>
        </p:grpSpPr>
        <p:pic>
          <p:nvPicPr>
            <p:cNvPr id="82" name="Picture 2" descr="File:Kaiser Permanente Building After Northridge Earthquake.jpg"/>
            <p:cNvPicPr/>
            <p:nvPr/>
          </p:nvPicPr>
          <p:blipFill>
            <a:blip r:embed="rId1"/>
            <a:stretch/>
          </p:blipFill>
          <p:spPr>
            <a:xfrm>
              <a:off x="184320" y="1219320"/>
              <a:ext cx="294624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16"/>
            <p:cNvSpPr/>
            <p:nvPr/>
          </p:nvSpPr>
          <p:spPr>
            <a:xfrm>
              <a:off x="282960" y="1971720"/>
              <a:ext cx="28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ructural Dam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1"/>
          <p:cNvGrpSpPr/>
          <p:nvPr/>
        </p:nvGrpSpPr>
        <p:grpSpPr>
          <a:xfrm>
            <a:off x="3476520" y="1219320"/>
            <a:ext cx="5640480" cy="1965240"/>
            <a:chOff x="3476520" y="1219320"/>
            <a:chExt cx="5640480" cy="1965240"/>
          </a:xfrm>
        </p:grpSpPr>
        <p:pic>
          <p:nvPicPr>
            <p:cNvPr id="85" name="Picture 7" descr="DSC02075"/>
            <p:cNvPicPr/>
            <p:nvPr/>
          </p:nvPicPr>
          <p:blipFill>
            <a:blip r:embed="rId2"/>
            <a:stretch/>
          </p:blipFill>
          <p:spPr>
            <a:xfrm>
              <a:off x="3476520" y="1219320"/>
              <a:ext cx="2621520" cy="19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" descr="3-15 085"/>
            <p:cNvPicPr/>
            <p:nvPr/>
          </p:nvPicPr>
          <p:blipFill>
            <a:blip r:embed="rId3"/>
            <a:stretch/>
          </p:blipFill>
          <p:spPr>
            <a:xfrm>
              <a:off x="6411960" y="1219320"/>
              <a:ext cx="262080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17"/>
            <p:cNvSpPr/>
            <p:nvPr/>
          </p:nvSpPr>
          <p:spPr>
            <a:xfrm>
              <a:off x="4880880" y="1971720"/>
              <a:ext cx="423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Nonstructural Dam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Records Dis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Mechanical Medical Equipm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17"/>
          <p:cNvSpPr/>
          <p:nvPr/>
        </p:nvSpPr>
        <p:spPr>
          <a:xfrm>
            <a:off x="593640" y="3510000"/>
            <a:ext cx="855036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damage = direct/indirect impact on the continued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healthcare delivery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y tool will capture the impact that specific damage has on loss of services/functions in a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s to establish multi-university/multi-center collaborativ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 to systematically collect damage data and loss of function data from healthcare facilities in Christchurch to understand the overall impact on the healthcar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dith Mitrani Reiser (jmitrani@jhu.edu) Tom Kirsch (tkirsch1@jhmi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ing Performance of Known, Previously-Retrofitted URM Buil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Cant Coordination: Rajesh Dhakal 021-269-4102 Rajesh.Dhakal@canterbury.ac.n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ERI Coordination: Fred Turner 021-082-65481 FredTurnerSE@gmail.c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oogle MyMap by Tao Lai with 70 Plus locations showing addresses, quick summaries of type of retrofits - Request link from F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ptember 4, 2010 Performance Documentation, Request link to Picasa Album with captions from F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aining to be observed: 4 URM's inside the CBD, 6 outside the CB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9:30:14Z</dcterms:created>
  <dc:creator>Mary Comerio</dc:creator>
  <dc:description/>
  <dc:language>en-US</dc:language>
  <cp:lastModifiedBy>Marko Schotanus</cp:lastModifiedBy>
  <dcterms:modified xsi:type="dcterms:W3CDTF">2011-03-17T05:04:49Z</dcterms:modified>
  <cp:revision>7</cp:revision>
  <dc:subject/>
  <dc:title>EERI Team</dc:title>
</cp:coreProperties>
</file>