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  <p:custShowLst>
    <p:custShow name="collapse hazards" id="0">
      <p:sldLst>
        <p:sld r:id="rId8"/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727-546F-4F86-AC3D-96D8B775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B2F-56D0-4419-9BDE-FC05D551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594-5AB7-426D-8A44-506EAE89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143-F841-4B27-BBE5-9A3E44BB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C9E0-1E95-46E4-AD3B-B217CFE7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7D40-8F20-444E-81F7-6639428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242A-9353-4AC9-B72C-1EFDCA03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A858-0827-446D-BE8B-C3070B2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4B3-A609-4E1F-89A9-8D395C3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D1B6-EA78-4C64-9C63-3991C170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6B33-57A9-4787-A773-9E19F4C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430-3C58-4A39-B520-4932E1A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0407-CB21-4477-B42E-907AA61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539-0684-4697-870F-F69EF1E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41CE-ABE3-4168-B080-1DEC440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FF1-C56E-4223-9795-E26D3484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4F3B-5A18-43D6-94CD-3F8CC33D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DE0-8DBF-4F10-9FDA-C7DC6AC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60E-48C0-4355-831D-8E831169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E4F-0B9B-434C-8FD1-947536C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CAD-4AF5-4085-9774-CF1E44AC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170-3A2F-43EB-A696-509FD49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9EE-3DD9-4918-89D6-F9071B3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73B-2CCD-4E7E-8F2A-4105587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158E-C995-48A4-8B05-9EE8F1D511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B7B-1318-4CDB-B779-374F6C2C19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006633"/>
                </a:solidFill>
                <a:latin typeface="Garamond"/>
              </a:rPr>
              <a:t>EAG Update</a:t>
            </a:r>
            <a:br>
              <a:rPr sz="4600"/>
            </a:br>
            <a:r>
              <a:rPr b="0" lang="en-NZ" sz="4600" spc="-1" strike="noStrike">
                <a:solidFill>
                  <a:srgbClr val="006633"/>
                </a:solidFill>
                <a:latin typeface="Garamond"/>
              </a:rPr>
              <a:t>SEAP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5f5f"/>
                </a:solidFill>
                <a:latin typeface="Arial"/>
              </a:rPr>
              <a:t>CTF 10 September, 201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But first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%NBS calculation for DEE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Design life – is less than 50 yrs acceptable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1280" y="2744640"/>
            <a:ext cx="2447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!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6162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Assessment is against equivalent new bui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Reduced design life may be outcome, not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SEA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Senior Engineering Advisory Pan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Advisory oversight onl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For more complex designs or site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Savings in consent processing times/cost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Scheduled for trial September/October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Any projects for consideration in trial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Wh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For now….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Geotechs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Nick Trayle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Clive Anderson (CCC)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Nick Harwoo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Grant Lovell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Structural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David Whittake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Craig Lewi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John Hare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Why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Improve quality of building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Improve engagement at early stage when designs are still developing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Deliver greater certainty over consenting times and proces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Anticipates risk-based consenting regime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79640" y="2708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5f5f5f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0:54:47Z</dcterms:created>
  <dc:creator>John Hare</dc:creator>
  <dc:description/>
  <dc:language>en-US</dc:language>
  <cp:lastModifiedBy>johnh</cp:lastModifiedBy>
  <dcterms:modified xsi:type="dcterms:W3CDTF">2013-09-10T00:45:24Z</dcterms:modified>
  <cp:revision>42</cp:revision>
  <dc:subject/>
  <dc:title>Detailed Engineering Evaluation Procedure</dc:title>
</cp:coreProperties>
</file>