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72E-CAF6-4889-AFEC-F7456192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99B-5CA0-472B-B8C9-7CA71E1D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73E-C8B1-4EC9-934C-B23A2632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31D-67A8-407B-9DA9-8573B250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F93-5F41-4E99-9F1D-C8A8CF81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A8B-54F1-43E5-BB55-97D72F36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150-739B-4CDF-BE2D-BE084CEF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4FC-5B14-4608-A087-1561E6A8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915-F466-486D-81E8-BB7DA81F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5A2-7DFA-4744-B3CE-740098D8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676-DF8A-4544-8501-63A1FD0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E5C-2DE4-4CB2-8417-ECFC87DF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25C3-7AC2-4731-AA40-DBB53DBFACB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8064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99"/>
                </a:solidFill>
                <a:latin typeface="Arial"/>
              </a:rPr>
              <a:t>MBIE EAG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284280"/>
            <a:ext cx="727236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anterbury Technic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3 April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79280" y="6203880"/>
            <a:ext cx="3543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Your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79280" y="6203880"/>
            <a:ext cx="3543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ocus on cons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formation sheet for home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ght commercial/ industrial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Your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79280" y="6203880"/>
            <a:ext cx="3543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sidential</a:t>
            </a:r>
            <a:br>
              <a:rPr sz="3600"/>
            </a:b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Focus on Consent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The standard of consent documentation from some needs ra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Main issue: </a:t>
            </a:r>
            <a:r>
              <a:rPr b="0" lang="en-NZ" sz="2800" spc="-1" strike="noStrike">
                <a:solidFill>
                  <a:srgbClr val="0000cc"/>
                </a:solidFill>
                <a:latin typeface="Arial"/>
              </a:rPr>
              <a:t>clearly demonstrating the complianc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onsent documents need a clear summary that highlights the key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79280" y="6203880"/>
            <a:ext cx="3543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Design Feature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398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concise overview of the structure and its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o facilitate the consen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future owners and engineers working on th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ESOC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Recap on the basic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eotechnical investigation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ruct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commended Construction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Design Feature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398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o. of storeys; area; roof and cladding weights; floor construction; foundation system and structur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s of design and compliance – the Verification Methods, Acceptable Solutions and Guidance followed (including any areas of departure from Guid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ound floor level (incl. flood risk requirements, where applic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chnical Category (designated and confir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179280" y="6203880"/>
            <a:ext cx="3543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Design Feature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5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eotechnical Investigation an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Investigation methods, and other data drawn up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Soil profile, including basic foundation bearing capacities, groundwater levels and subsoil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Global Lateral Movement and/ or Stretch at SLS and U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Vertical Land Settlement at SLS and U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Structur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Key loadings:  seismic, wind, snow, floor loa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Lateral res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Other design assu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Recommended Construction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ritical elements and stages to be inspected during co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Focus on Consenting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Guidance on the use of RBW Certificates of Work, Producer Statements and Design Features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is a CoW requi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are Producer Statements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uggested engineering sign-of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cluding worked examples of CoWs for TC1, TC2 and T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Information Sheet for Homeow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IPENZ/ ACENZ/ MBIE information sheet for engineers to give to home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aging homeowner expec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communicate to homeowners the scope and limitations of engineering involvement an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highlight the range of future possible performanc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accompany engineering reports and consent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Commercial</a:t>
            </a:r>
            <a:br>
              <a:rPr sz="3600"/>
            </a:br>
            <a:r>
              <a:rPr b="1" lang="en-NZ" sz="3600" spc="-1" strike="noStrike">
                <a:solidFill>
                  <a:srgbClr val="0000cc"/>
                </a:solidFill>
                <a:latin typeface="Arial"/>
              </a:rPr>
              <a:t>Light Commercial/ Industrial Buil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urrently: DEE Appendix 5A Ma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Next: Updating and taking this guidance fur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Focus: Guidance on determining ‘accept/ repair /replace’ that maintains or achieves regulatory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coupling and de-emphasising insurance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Looking at potential vulnerabilities and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fe safety, durability, amenity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9:32:23Z</dcterms:created>
  <dc:creator>Mike Stannard</dc:creator>
  <dc:description/>
  <dc:language>en-US</dc:language>
  <cp:lastModifiedBy>Dave Brunsdon</cp:lastModifiedBy>
  <cp:lastPrinted>2013-04-02T04:22:17Z</cp:lastPrinted>
  <dcterms:modified xsi:type="dcterms:W3CDTF">2013-04-03T03:44:22Z</dcterms:modified>
  <cp:revision>28</cp:revision>
  <dc:subject/>
  <dc:title>Sections 17 and 112 of Building Act &amp;  Strengthening/repairing existing commercial buildings</dc:title>
</cp:coreProperties>
</file>